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6FCEC-2247-40E6-9CF7-36E986083F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дготвена е PowerPoint презентација за да му се помогне на обучувачот да поттикне дискусија за сите наставни единици од курсот. Обучувачот треба да ги подели формуларите за оценка на курсот пред почетокот на ова предавање. Во одредени околности, може да е соодветно формуларите за оценка на курсот да се поделат уште на самиот почеток на курсот со цел слушателите истиот да го пополнуваат ако што минува курсот и кога им се свежи сеќавањата за предавањата. Исто така има тенденција доколку им се дадат на крајот од курсот слушателите да не ги пополнат формулираните целосно.  </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DF696-BE32-48A5-B573-FA1DC1D1B2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6D4C0-8343-4829-8BE2-4AC17D45905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ако и во претходните наставни единици, треба да се следи дневниот ред и очекуваните резултати дадени на почетокот на наставната единица.</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A19E6-BA20-4873-AAC4-9F1AEBDEEF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бучувачот треба да направи краток преглед на дневниот ред и очекуваните резултати на секоја наставна единица. За идно изведување на курсот треба да се запишат повратните информации и предлози на слушателите.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30FCD-0421-46D3-A183-8A69ECF3A0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62DA2-C9DD-4DF9-B2B8-23E3284D0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16900-8881-4494-A7AF-5F19086DC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575D3-BC2F-40F3-AA0D-B02271485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C4C8B-EB04-4001-9464-9E01CAA17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E71F1-7B01-44B2-814A-710E907D7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0B264-5953-45BF-85A7-1DDEA605A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46F53-93C3-47F6-AD34-B49D5D28B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54EBA-803C-448D-9FA4-CBF468C91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FA259-C8D4-45EF-BB57-915773965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A3627-BBD4-40F2-960D-D66951331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6A02-EFA2-462B-910C-0681412AF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4AF90-ADFE-488E-87E5-A364E07DE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B133B-C404-404E-B4C8-9D555C7943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Наставна единица 1.3.5</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Повратни информации од слушателите </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Завршување на курсот</a:t>
            </a:r>
            <a:endParaRPr b="0" lang="en-US" sz="28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2 Претрес и заплена </a:t>
            </a:r>
            <a:br>
              <a:rPr sz="4000"/>
            </a:br>
            <a:endParaRPr b="0" lang="en-US" sz="4000" spc="-1" strike="noStrike">
              <a:solidFill>
                <a:srgbClr val="000000"/>
              </a:solidFill>
              <a:latin typeface="Calibri"/>
            </a:endParaRPr>
          </a:p>
        </p:txBody>
      </p:sp>
      <p:sp>
        <p:nvSpPr>
          <p:cNvPr id="70" name=""/>
          <p:cNvSpPr txBox="1"/>
          <p:nvPr/>
        </p:nvSpPr>
        <p:spPr>
          <a:xfrm>
            <a:off x="457200" y="1417680"/>
            <a:ext cx="8229600" cy="4960800"/>
          </a:xfrm>
          <a:prstGeom prst="rect">
            <a:avLst/>
          </a:prstGeom>
          <a:noFill/>
          <a:ln w="0">
            <a:noFill/>
          </a:ln>
        </p:spPr>
        <p:txBody>
          <a:bodyPr anchor="t">
            <a:normAutofit/>
          </a:bodyPr>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ea typeface="ＭＳ Ｐゴシック"/>
              </a:rPr>
              <a:t>По предавањето на оваа наставна единица слушателите ќе можат: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о објаснат соодветното планирање и подготовка на упад заради претрес на место каде може да се најдат електронски доказ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алатките и алатките кои може да се потребни за претрес на место каде може да се најдат електронски доказ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објаснат како би го обезбедиле и документирале местото на кривичниот настан каде се појавуваат електронски докази. </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3</a:t>
            </a:r>
            <a:br>
              <a:rPr sz="4000"/>
            </a:br>
            <a:r>
              <a:rPr b="1" lang="mk-MK" sz="4000" spc="-1" strike="noStrike">
                <a:solidFill>
                  <a:srgbClr val="000000"/>
                </a:solidFill>
                <a:latin typeface="Calibri"/>
              </a:rPr>
              <a:t>Претрес и заплена - Дел 1</a:t>
            </a:r>
            <a:br>
              <a:rPr sz="4000"/>
            </a:br>
            <a:endParaRPr b="0" lang="en-US" sz="4000" spc="-1" strike="noStrike">
              <a:solidFill>
                <a:srgbClr val="000000"/>
              </a:solidFill>
              <a:latin typeface="Calibri"/>
            </a:endParaRPr>
          </a:p>
        </p:txBody>
      </p:sp>
      <p:sp>
        <p:nvSpPr>
          <p:cNvPr id="72" name=""/>
          <p:cNvSpPr txBox="1"/>
          <p:nvPr/>
        </p:nvSpPr>
        <p:spPr>
          <a:xfrm>
            <a:off x="457200" y="1600200"/>
            <a:ext cx="8229600" cy="5035680"/>
          </a:xfrm>
          <a:prstGeom prst="rect">
            <a:avLst/>
          </a:prstGeom>
          <a:noFill/>
          <a:ln w="0">
            <a:noFill/>
          </a:ln>
        </p:spPr>
        <p:txBody>
          <a:bodyPr anchor="t">
            <a:normAutofit/>
          </a:bodyPr>
          <a:p>
            <a:pPr>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ea typeface="ＭＳ Ｐゴシック"/>
              </a:rPr>
              <a:t>По предавањето на оваа наставна единица слушателите ќе можат: </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идентификуваат изворите на електронски докази врз основа на покажаните ситуаци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опишат стандардните оперативни постапки (СОП) за пакување, пренос и складирање на електронските доказ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направат разлика меѓу СОП врз основа на видот на уред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разговараат за техниките за проверка дали компјутерскиот систем е вклучен или исклучен</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применат општите упатства за заплена на електронски уреди</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3</a:t>
            </a:r>
            <a:br>
              <a:rPr sz="4000"/>
            </a:br>
            <a:r>
              <a:rPr b="1" lang="mk-MK" sz="4000" spc="-1" strike="noStrike">
                <a:solidFill>
                  <a:srgbClr val="000000"/>
                </a:solidFill>
                <a:latin typeface="Calibri"/>
              </a:rPr>
              <a:t>Претрес и заплена - Дел 2</a:t>
            </a:r>
            <a:br>
              <a:rPr sz="4000"/>
            </a:br>
            <a:endParaRPr b="0" lang="en-US" sz="4000" spc="-1" strike="noStrike">
              <a:solidFill>
                <a:srgbClr val="000000"/>
              </a:solidFill>
              <a:latin typeface="Calibri"/>
            </a:endParaRPr>
          </a:p>
        </p:txBody>
      </p:sp>
      <p:sp>
        <p:nvSpPr>
          <p:cNvPr id="74" name=""/>
          <p:cNvSpPr txBox="1"/>
          <p:nvPr/>
        </p:nvSpPr>
        <p:spPr>
          <a:xfrm>
            <a:off x="457200" y="1600200"/>
            <a:ext cx="8229600" cy="5035680"/>
          </a:xfrm>
          <a:prstGeom prst="rect">
            <a:avLst/>
          </a:prstGeom>
          <a:noFill/>
          <a:ln w="0">
            <a:noFill/>
          </a:ln>
        </p:spPr>
        <p:txBody>
          <a:bodyPr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Arial"/>
                <a:ea typeface="ＭＳ Ｐゴシック"/>
              </a:rPr>
              <a:t>По предавањето на оваа наставна единица слушателите ќе можат: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направат разлика меѓу ситуација со уреди на местото на настанот и ситуација на проток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дефинираат ги термините „нестабилни податоци“, „преодни податоци“ и „форензичка анализа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објаснат вредноста на нестабилните податоци за истрагите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наведат барем четири вида на податоци кои би се изгубиле без форензичка анализа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проведат мерки за првична реакција кога се соочуваат со компјутерски систем кој е во функција</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опишат предизвиците на шифрирањето и можностите на форензичката анализа на живи податоци во ситуација во која има шифрирање</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зговараат за предизвиците на различните правни рамки во ситуација во која податоците се чуваат на далечински локации, на пример компјутерско работење во облак</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о дефинираат терминот „компјутерско работење во облак“</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поредат барем три услуги од компјутерското работење во облак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700" spc="-1" strike="noStrike">
                <a:solidFill>
                  <a:srgbClr val="000000"/>
                </a:solidFill>
                <a:latin typeface="Calibri"/>
              </a:rPr>
              <a:t>1.3.2 и 1.3.3 Кратки упатства за претрес и заплена и практични вежби </a:t>
            </a:r>
            <a:br>
              <a:rPr sz="3700"/>
            </a:br>
            <a:endParaRPr b="0" lang="en-US" sz="37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ea typeface="ＭＳ Ｐゴシック"/>
              </a:rPr>
              <a:t>По предавањето на оваа наставна единица слушателите ќе можат: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оперативен план за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о спроведат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постапуваат со електронски докази</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о документираат и обезбедат местото на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и идентификуваат изворите на електронски докази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список на запленетите предмети</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извештај во зависност од претресо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fontScale="97000"/>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претстават како групата ја завршила фазата на подготовка и планирање за претрес и заплена</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претстават како групата постапувала со осомниченото лице доколку тоа било присутно на местото на настано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ја претстават и објаснат постапката за претрес и заплена</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ги претстават запленетите предмети релевантни за случајо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објаснат како било постапувано со предметите  </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3.4 Претрес и заплена - Повратни информации по практичната вежба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83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1.3.5 Завршување на курсот</a:t>
            </a:r>
            <a:endParaRPr b="0" lang="en-US" sz="4400" spc="-1" strike="noStrike">
              <a:solidFill>
                <a:srgbClr val="000000"/>
              </a:solidFill>
              <a:latin typeface="Calibri"/>
            </a:endParaRPr>
          </a:p>
        </p:txBody>
      </p:sp>
      <p:sp>
        <p:nvSpPr>
          <p:cNvPr id="80" name=""/>
          <p:cNvSpPr txBox="1"/>
          <p:nvPr/>
        </p:nvSpPr>
        <p:spPr>
          <a:xfrm>
            <a:off x="457200" y="1106640"/>
            <a:ext cx="8229600" cy="5751360"/>
          </a:xfrm>
          <a:prstGeom prst="rect">
            <a:avLst/>
          </a:prstGeom>
          <a:noFill/>
          <a:ln w="0">
            <a:noFill/>
          </a:ln>
        </p:spPr>
        <p:txBody>
          <a:bodyPr anchor="t">
            <a:normAutofit/>
          </a:bodyPr>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По предавањето на оваа наставна единица слушателите ќе можат: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дадат соодветни повратни информации за курсот и неговата делотворност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пополнат формуларите за оценка на курсот на Советот на Европа</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идентификуваат прашањата кои треба да се доработат со цел курсот да се предава на национално ниво</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опишат активностите кои треба да се преземат после курсот со цел материјалите од курсот да се подготват за настава на национално ниво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о идентификуваат следното ниво на знаење кое треба да го совладаат за да ги подобрат нивните познавања и вештини за предметната тем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2"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невен ред</a:t>
            </a:r>
            <a:endParaRPr b="0" lang="en-US" sz="4400" spc="-1" strike="noStrike">
              <a:solidFill>
                <a:srgbClr val="000000"/>
              </a:solidFill>
              <a:latin typeface="Calibri"/>
            </a:endParaRPr>
          </a:p>
        </p:txBody>
      </p:sp>
      <p:sp>
        <p:nvSpPr>
          <p:cNvPr id="52" name=""/>
          <p:cNvSpPr txBox="1"/>
          <p:nvPr/>
        </p:nvSpPr>
        <p:spPr>
          <a:xfrm>
            <a:off x="456840" y="1135080"/>
            <a:ext cx="8513640" cy="5494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прв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Отворање на курсот и запознавање</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Вовед за прашањето на електронски докази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Извори на докази</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втор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Дневен преглед</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a:t>
            </a:r>
            <a:endParaRPr b="0" lang="en-US" sz="20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mk-MK" sz="1400" spc="-1" strike="noStrike">
                <a:solidFill>
                  <a:srgbClr val="000000"/>
                </a:solidFill>
                <a:latin typeface="Calibri"/>
              </a:rPr>
              <a:t>Кого и што да земете, обезбедување и документирање на местото на настанот</a:t>
            </a:r>
            <a:endParaRPr b="0" lang="en-US" sz="1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a:t>
            </a:r>
            <a:endParaRPr b="0" lang="en-US" sz="20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mk-MK" sz="1400" spc="-1" strike="noStrike">
                <a:solidFill>
                  <a:srgbClr val="000000"/>
                </a:solidFill>
                <a:latin typeface="Calibri"/>
              </a:rPr>
              <a:t>на уреди на местото на настанот и во ситуација на проток на живи податоци</a:t>
            </a:r>
            <a:endParaRPr b="0" lang="en-US" sz="1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трет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Дневен преглед</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 Кратки упатства и Практична вежба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 Повратни информации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овратни информации и завршување на курсот</a:t>
            </a:r>
            <a:endParaRPr b="0" lang="en-US" sz="2000" spc="-1" strike="noStrike">
              <a:solidFill>
                <a:srgbClr val="000000"/>
              </a:solidFill>
              <a:latin typeface="Calibri"/>
            </a:endParaRPr>
          </a:p>
          <a:p>
            <a:pPr lvl="2" marL="1143000" indent="-22860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 за курсот на првите тимови</a:t>
            </a:r>
            <a:endParaRPr b="0" lang="en-US" sz="4400" spc="-1" strike="noStrike">
              <a:solidFill>
                <a:srgbClr val="000000"/>
              </a:solidFill>
              <a:latin typeface="Calibri"/>
            </a:endParaRPr>
          </a:p>
        </p:txBody>
      </p:sp>
      <p:sp>
        <p:nvSpPr>
          <p:cNvPr id="54" name=""/>
          <p:cNvSpPr/>
          <p:nvPr/>
        </p:nvSpPr>
        <p:spPr>
          <a:xfrm>
            <a:off x="-1062000" y="173160"/>
            <a:ext cx="4321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Calibri"/>
            </a:endParaRPr>
          </a:p>
        </p:txBody>
      </p:sp>
      <p:pic>
        <p:nvPicPr>
          <p:cNvPr id="55" name="P 1" descr="COE.png"/>
          <p:cNvPicPr/>
          <p:nvPr/>
        </p:nvPicPr>
        <p:blipFill>
          <a:blip r:embed="rId1"/>
          <a:stretch/>
        </p:blipFill>
        <p:spPr>
          <a:xfrm>
            <a:off x="117360" y="1119240"/>
            <a:ext cx="3210120" cy="695160"/>
          </a:xfrm>
          <a:prstGeom prst="rect">
            <a:avLst/>
          </a:prstGeom>
          <a:ln w="0">
            <a:noFill/>
          </a:ln>
        </p:spPr>
      </p:pic>
      <p:graphicFrame>
        <p:nvGraphicFramePr>
          <p:cNvPr id="56" name=""/>
          <p:cNvGraphicFramePr/>
          <p:nvPr/>
        </p:nvGraphicFramePr>
        <p:xfrm>
          <a:off x="-334800" y="723960"/>
          <a:ext cx="11269440" cy="5613480"/>
        </p:xfrm>
        <a:graphic>
          <a:graphicData uri="http://schemas.openxmlformats.org/drawingml/2006/table">
            <a:tbl>
              <a:tblPr/>
              <a:tblGrid>
                <a:gridCol w="1446840"/>
                <a:gridCol w="1111320"/>
                <a:gridCol w="722520"/>
                <a:gridCol w="181440"/>
                <a:gridCol w="363240"/>
                <a:gridCol w="2486520"/>
                <a:gridCol w="216000"/>
                <a:gridCol w="181440"/>
                <a:gridCol w="1208880"/>
                <a:gridCol w="1539720"/>
                <a:gridCol w="181800"/>
                <a:gridCol w="181440"/>
                <a:gridCol w="181440"/>
                <a:gridCol w="181440"/>
                <a:gridCol w="871200"/>
                <a:gridCol w="216000"/>
              </a:tblGrid>
              <a:tr h="861840">
                <a:tc gridSpan="7">
                  <a: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9">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Совет на Европа</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Обука за органите за спроведување на законот како дел од првата екипа на местото на настанот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28600">
                <a:tc gridSpan="15">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Распоред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r>
              <a:tr h="636840">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b" marL="90000" marR="90000">
                    <a:lnL w="576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09:00 - 10: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0:00 -11: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00 - 12: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00 - 13: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00 - 14:00 </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4:00 - 15: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3">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5:00 - 16: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6:00 - 17:00</a:t>
                      </a:r>
                      <a:endParaRPr b="0" lang="en-US" sz="900" spc="-1" strike="noStrike">
                        <a:solidFill>
                          <a:srgbClr val="000000"/>
                        </a:solidFill>
                        <a:latin typeface="Calibri"/>
                      </a:endParaRPr>
                    </a:p>
                  </a:txBody>
                  <a:tcPr anchor="b" marL="90000" marR="90000">
                    <a:lnL w="4320">
                      <a:solidFill>
                        <a:srgbClr val="000000"/>
                      </a:solidFill>
                    </a:lnL>
                    <a:lnR w="576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1826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1</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grid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Отворање на курсот и запознавање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Вовед во начелата и постапките за електронски докази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3">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Извори на доказ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мпјутерски систем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мпјутерски мрежи</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Извори на доказ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Докази од интернет, овластувања и дозволи, подготовка и планирање, надворешни специјализирани вешти лиц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974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2</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невен преглед</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gridSpan="6">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ј учествува и што треба да се земе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Обезбедување на местото на настанот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Документирање на местото на настанот</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6">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3</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Во ситуација на анализа на уреди од самото место на настанот</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Во ситуација на проток на живи информации</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7290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3</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невен преглед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grid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ратки упатства за тимовите</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Практична вежб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Практична вежб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r>
                        <a:rPr b="0" lang="mk-MK" sz="900" spc="-1" strike="noStrike">
                          <a:solidFill>
                            <a:srgbClr val="000000"/>
                          </a:solidFill>
                          <a:latin typeface="Times New Roman"/>
                          <a:ea typeface="Times New Roman"/>
                        </a:rPr>
                        <a:t>повратни информации за вежбата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5</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овратни информации од слушателите и од обучувачите затворање на курсот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456840" y="1235160"/>
            <a:ext cx="8512200" cy="4890960"/>
          </a:xfrm>
          <a:prstGeom prst="rect">
            <a:avLst/>
          </a:prstGeom>
          <a:noFill/>
          <a:ln w="0">
            <a:noFill/>
          </a:ln>
        </p:spPr>
        <p:txBody>
          <a:bodyPr anchor="t">
            <a:normAutofit/>
          </a:bodyPr>
          <a:p>
            <a:pPr marL="343080" indent="-3430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 предавањето на оваа наставна единица слушателите ќе можат: </a:t>
            </a:r>
            <a:endParaRPr b="0" lang="en-US" sz="23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дадат соодветни повратни информации за курсот и неговата делотворност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и пополнат формуларите за оценка на курсо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о идентификуваат следното ниво на знаење кое треба да го совладаат за да ги подобрат нивните познавања и вештини за предметната тема.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Дневен ред на курсот и очекувани резултати</a:t>
            </a:r>
            <a:br>
              <a:rPr sz="4000"/>
            </a:br>
            <a:br>
              <a:rPr sz="4000"/>
            </a:br>
            <a:br>
              <a:rPr sz="4000"/>
            </a:br>
            <a:endParaRPr b="0" lang="en-US" sz="4000" spc="-1" strike="noStrike">
              <a:solidFill>
                <a:srgbClr val="000000"/>
              </a:solidFill>
              <a:latin typeface="Calibri"/>
            </a:endParaRPr>
          </a:p>
        </p:txBody>
      </p:sp>
      <p:pic>
        <p:nvPicPr>
          <p:cNvPr id="6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обучувачите и слушателите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вкупната цел на курсо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објаснат каква е потребата за ваков курс</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главните елементи на распоредот и активностите во текот на курсо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постапките за заштита на здравјето и безбедноста во просториите каде се одржува курсот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6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Наставна единица 1.1.1 – Вовед во курсот - Очекувани резултати</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1.2 Вовед во начелата и постапките за електронски докази </a:t>
            </a:r>
            <a:endParaRPr b="0" lang="en-US" sz="4000" spc="-1" strike="noStrike">
              <a:solidFill>
                <a:srgbClr val="000000"/>
              </a:solidFill>
              <a:latin typeface="Calibri"/>
            </a:endParaRPr>
          </a:p>
        </p:txBody>
      </p:sp>
      <p:sp>
        <p:nvSpPr>
          <p:cNvPr id="64" name=""/>
          <p:cNvSpPr txBox="1"/>
          <p:nvPr/>
        </p:nvSpPr>
        <p:spPr>
          <a:xfrm>
            <a:off x="457200" y="1600200"/>
            <a:ext cx="8229600" cy="474984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ea typeface="ＭＳ Ｐゴシック"/>
              </a:rPr>
              <a:t>По предавањето на оваа наставна единица слушателите ќе можат: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идентификуваат начелата за постапување со електронски докази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објаснат посебните карактеристики на електронските докази  </a:t>
            </a:r>
            <a:endParaRPr b="0" lang="en-US" sz="2800" spc="-1" strike="noStrike">
              <a:solidFill>
                <a:srgbClr val="000000"/>
              </a:solidFill>
              <a:latin typeface="Calibri"/>
            </a:endParaRPr>
          </a:p>
          <a:p>
            <a:pPr>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1.3 и 1.1.4 Извори на докази</a:t>
            </a:r>
            <a:br>
              <a:rPr sz="4000"/>
            </a:br>
            <a:endParaRPr b="0" lang="en-US" sz="4000" spc="-1" strike="noStrike">
              <a:solidFill>
                <a:srgbClr val="000000"/>
              </a:solidFill>
              <a:latin typeface="Calibri"/>
            </a:endParaRPr>
          </a:p>
        </p:txBody>
      </p:sp>
      <p:sp>
        <p:nvSpPr>
          <p:cNvPr id="66" name=""/>
          <p:cNvSpPr txBox="1"/>
          <p:nvPr/>
        </p:nvSpPr>
        <p:spPr>
          <a:xfrm>
            <a:off x="457200" y="1133280"/>
            <a:ext cx="8229600" cy="4863960"/>
          </a:xfrm>
          <a:prstGeom prst="rect">
            <a:avLst/>
          </a:prstGeom>
          <a:noFill/>
          <a:ln w="0">
            <a:noFill/>
          </a:ln>
        </p:spPr>
        <p:txBody>
          <a:bodyPr anchor="t">
            <a:norm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ea typeface="ＭＳ Ｐゴシック"/>
              </a:rPr>
              <a:t>По предавањето на оваа наставна единица слушателите ќе можат: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утврдат кои извори на докази имаат доказна вредност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направат разлика меѓу компјутерските мрежи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и идентификуваат мрежните уреди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потенцијалните докази и извори на докази на интернет</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елотворно да ги завршат подготовката и планирањето на претресот и заплената на електронски докази</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овластувањата и одобрувањата во постапката за претрес и заплена на електронски докази </a:t>
            </a:r>
            <a:endParaRPr b="0" lang="en-US" sz="2400" spc="-1" strike="noStrike">
              <a:solidFill>
                <a:srgbClr val="000000"/>
              </a:solidFill>
              <a:latin typeface="Calibri"/>
            </a:endParaRPr>
          </a:p>
          <a:p>
            <a:pPr lvl="1" marL="285840" indent="-28584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улогата на надворешните специјализирани вешти лица. </a:t>
            </a:r>
            <a:r>
              <a:rPr b="0" lang="mk-MK" sz="2600" spc="-1" strike="noStrike">
                <a:solidFill>
                  <a:srgbClr val="000000"/>
                </a:solidFill>
                <a:latin typeface="Calibri"/>
              </a:rPr>
              <a:t>  </a:t>
            </a:r>
            <a:endParaRPr b="0" lang="en-US" sz="2600" spc="-1" strike="noStrike">
              <a:solidFill>
                <a:srgbClr val="000000"/>
              </a:solidFill>
              <a:latin typeface="Calibri"/>
            </a:endParaRPr>
          </a:p>
          <a:p>
            <a:pPr lvl="1" marL="285840" indent="-28584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lvl="1" marL="285840" indent="-28584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1 и 1.3.1</a:t>
            </a:r>
            <a:br>
              <a:rPr sz="4000"/>
            </a:br>
            <a:r>
              <a:rPr b="1" lang="mk-MK" sz="4000" spc="-1" strike="noStrike">
                <a:solidFill>
                  <a:srgbClr val="000000"/>
                </a:solidFill>
                <a:latin typeface="Calibri"/>
              </a:rPr>
              <a:t>Дневни прегледи</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 предавањето на наставните единици, слушателите ќе можат:</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областите опфатени со активностите од претходниот ден кои слушателите ги разбрале</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областите за кои слушателите треба уште еднаш да го поминат материјалот за да го постигнат потребното ниво на знаењ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0T11:04:42Z</dcterms:created>
  <dc:creator>Nigel Jones</dc:creator>
  <dc:description/>
  <dc:language>en-US</dc:language>
  <cp:lastModifiedBy>Daniela</cp:lastModifiedBy>
  <dcterms:modified xsi:type="dcterms:W3CDTF">2013-07-25T00:54:34Z</dcterms:modified>
  <cp:revision>19</cp:revision>
  <dc:subject/>
  <dc:title>Introductory Cybercrime Training for Judges and Prosecutors</dc:title>
</cp:coreProperties>
</file>